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355-DE47-456F-B139-E3A13382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B2B-4931-40A3-A526-8F15DCFC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DDB-0A08-475C-9B48-EA9DC1D5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9E5-E22F-4764-8353-E519D2A7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70C-2B6B-4CAD-ACB1-9C045B23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CEA-A220-4DF0-9EBE-CAC7BFE2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19E-A193-4A42-8646-25E69842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5CA-B9C0-462E-A217-F356C2C4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124-21AA-4D3F-B542-FE134600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F16-AC39-4F79-A6A4-2056D79E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CAF-E227-4991-B48B-857D178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C7A-3D5E-45CC-8E38-80A4A15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8996-9972-4FDF-9DED-436ECB620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 est l’artiste? (1)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illisme, fauv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urat, Derain, Gauguin, Van Gogh, Matisse, Lautr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8920" cy="6400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86400" y="19807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8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449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81480" y="26665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u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449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050840"/>
            <a:ext cx="84582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8120" y="3805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050840"/>
            <a:ext cx="84582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g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43084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4308480" cy="5668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57800" y="1295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39116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015920"/>
            <a:ext cx="76201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015920"/>
            <a:ext cx="76201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43600" y="24379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619760" cy="624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25160" y="45720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329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0080" y="990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t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329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841320"/>
            <a:ext cx="739116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3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62720" y="15235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3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u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964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10080" y="19807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964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3197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10080" y="990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t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3197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5021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514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021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34824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236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0080" y="990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t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236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829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t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829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684360"/>
            <a:ext cx="731520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684360"/>
            <a:ext cx="7315200" cy="5981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7621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136520"/>
            <a:ext cx="73152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136520"/>
            <a:ext cx="73152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996840"/>
            <a:ext cx="3200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5006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86400" y="12949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g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5006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g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34824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4713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10080" y="19807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4713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1173240"/>
            <a:ext cx="7391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173240"/>
            <a:ext cx="7391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895320"/>
            <a:ext cx="84582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u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895320"/>
            <a:ext cx="84582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1519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t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53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53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86400" y="996840"/>
            <a:ext cx="3200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5167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5000" y="28195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u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5167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0:11:26Z</dcterms:created>
  <dc:creator>pdimick</dc:creator>
  <dc:description/>
  <dc:language>en-US</dc:language>
  <cp:lastModifiedBy>Administrator</cp:lastModifiedBy>
  <dcterms:modified xsi:type="dcterms:W3CDTF">2011-06-02T20:23:13Z</dcterms:modified>
  <cp:revision>12</cp:revision>
  <dc:subject/>
  <dc:title>Post-impressionisme</dc:title>
</cp:coreProperties>
</file>